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00816"/>
        <c:axId val="81254953"/>
      </c:barChart>
      <c:catAx>
        <c:axId val="912008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254953"/>
        <c:crosses val="autoZero"/>
        <c:auto val="1"/>
        <c:lblAlgn val="ctr"/>
        <c:lblOffset val="100"/>
        <c:noMultiLvlLbl val="0"/>
      </c:catAx>
      <c:valAx>
        <c:axId val="812549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008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9740-5159-4B94-B5B9-BDC2E60B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19A-106D-47AA-A3CF-E45FBEEE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77C-3A2A-41F1-B726-51FDDBE3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84F-8002-4B89-AAEE-6942F9C6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9D90-3970-451B-BC76-A049D76A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8C0-B463-4DA9-A02B-123BF52C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B325-93C1-4DDC-8547-F5556DA1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7B3B-B306-42A9-B423-DBA1EA64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42A-26B4-40E5-9836-C7CFDF55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34EE-8F1E-4BB1-87F8-302E1C35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FA6-1253-42A5-8C34-C144E905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FE0E-CA6F-4C5B-8D54-D6767448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00B519-96B0-499B-A03F-2A3AAE7B43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