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902186"/>
        <c:axId val="31713173"/>
      </c:barChart>
      <c:catAx>
        <c:axId val="249021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13173"/>
        <c:crosses val="autoZero"/>
        <c:auto val="1"/>
        <c:lblAlgn val="ctr"/>
        <c:lblOffset val="100"/>
        <c:noMultiLvlLbl val="0"/>
      </c:catAx>
      <c:valAx>
        <c:axId val="31713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021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B60E-A1B3-47C7-A5C9-7AE0F15C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08BC-4149-4010-AFEA-A631B70B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67AD-9D02-48B8-A9CC-46CD3507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CF38-444F-4324-9BEB-4FA6B3AB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CBD3-B5CE-4E63-889A-12752194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8795-70DC-4AD1-BF79-7ED56318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AB26-F209-4ADD-A9DF-EB0B0BD0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047-A3BA-40D7-AD5B-6F2BBC58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259B-E32C-4A21-B556-5ACACA67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4DC5-A5D1-482D-9E48-F3EDA908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23F4-7B4C-466F-B8FB-EEC1426E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25F1-3EFF-4A3D-AE9D-6FFF044D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5A8C6-D964-4B77-8DEF-22A397F5ED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