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49697"/>
        <c:axId val="40760978"/>
      </c:barChart>
      <c:catAx>
        <c:axId val="69249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0978"/>
        <c:crosses val="autoZero"/>
        <c:auto val="1"/>
        <c:lblAlgn val="ctr"/>
        <c:lblOffset val="100"/>
        <c:noMultiLvlLbl val="0"/>
      </c:catAx>
      <c:valAx>
        <c:axId val="40760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49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329-F7E3-4F0B-AF25-7B1470C5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C4D-9026-4E3E-BDA4-00F572D4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E35-F210-4E72-A32F-3962DADE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8C5-AF6C-4C3F-A811-2AF6B98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375-673F-4BA3-B02B-F12C6588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FC5-CAA6-4363-836A-5E25AC9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DE2-CFE9-4C6E-82EA-8CEEE7C5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FD3-98FE-4853-9CA0-80767D4A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F77-027C-432C-BEB9-A4FA35A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598-3C7F-46C6-8EB7-5EB5898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22F-6EBC-4A39-96EA-24B599A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BE4-0D41-4915-A810-DEBC8D9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66B66-F5A7-4E39-B3A0-BE2A16943F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