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80973"/>
        <c:axId val="76422311"/>
      </c:barChart>
      <c:catAx>
        <c:axId val="88380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22311"/>
        <c:crosses val="autoZero"/>
        <c:auto val="1"/>
        <c:lblAlgn val="ctr"/>
        <c:lblOffset val="100"/>
        <c:noMultiLvlLbl val="0"/>
      </c:catAx>
      <c:valAx>
        <c:axId val="76422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80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4EB-EEB3-46E4-A82E-7A9A2B5F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D62-3D17-4FB8-811A-6C9C437D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43C-F6C0-4F14-9DDD-568366E2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67E-3D67-4D8D-A4B1-15BDD8B2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0CE-32F2-4D60-B261-9031A8C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6F3-5AFE-44EC-9ED9-EDA06B6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879-8EF3-4BA3-83FB-A139CDA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06B-8903-4283-8512-9B657DD9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9F3-DA54-449B-933F-84217FD6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5ED-B77D-401E-9976-D9A09D2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B7E-0BB4-4785-AD30-30797FF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D09-F563-4B7F-A25E-0E95B28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6A45A-E529-462A-8F8E-5B79AA8A7F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