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49650"/>
        <c:axId val="57976420"/>
      </c:barChart>
      <c:catAx>
        <c:axId val="86649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76420"/>
        <c:crosses val="autoZero"/>
        <c:auto val="1"/>
        <c:lblAlgn val="ctr"/>
        <c:lblOffset val="100"/>
        <c:noMultiLvlLbl val="0"/>
      </c:catAx>
      <c:valAx>
        <c:axId val="579764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9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E3B-228B-4655-865B-126EA840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A32-9E59-4B13-8AC8-B7A7341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ED6-80EC-418A-B48A-852ACCDE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65B-B3ED-4051-A2AE-D51128E8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AE2-5A44-4788-86E1-E7F0F3FE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859-F285-473B-9DFE-E504DDA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373-2A9C-4FCE-8A6C-8BAB7AB1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572-0DC4-4605-8652-DF630D64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DB0-60B6-45BC-8513-AFA71257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09A-ECC5-4016-914E-13F7A6A9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6F0-DF59-4ED2-8ED4-6C4757F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AE1-84CC-49D3-84DF-8C36D65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90B24-F2F0-4514-B89E-69AEE482E8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