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076486"/>
        <c:axId val="64527184"/>
      </c:barChart>
      <c:catAx>
        <c:axId val="820764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527184"/>
        <c:crosses val="autoZero"/>
        <c:auto val="1"/>
        <c:lblAlgn val="ctr"/>
        <c:lblOffset val="100"/>
        <c:noMultiLvlLbl val="0"/>
      </c:catAx>
      <c:valAx>
        <c:axId val="645271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0764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357F-45CF-472D-A524-02B84ADBF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493A-7D32-43E3-884A-3CCA6638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E7A9-1BE7-480B-B7B7-C272E4170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22D4-CA76-410B-A8DB-76B0344DA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2CC0-4210-4A77-AA07-B160E085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19C0-CDF9-455D-BF75-44D8220A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B65E-A227-4D15-802C-9ACF9FF9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8DE3-512A-4952-894B-51DAD6EC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2ECD-C7FC-495B-AC8C-A7D08333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7699-28C7-4F6D-A2FF-FDE29F33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FD8B-341D-4947-8D00-93A5BF2D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9DB6-BFEC-4595-B28E-D9C050C3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B4E9D-2DA3-4BA4-AB10-178FA6E944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