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38606"/>
        <c:axId val="33060768"/>
      </c:barChart>
      <c:catAx>
        <c:axId val="45438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60768"/>
        <c:crosses val="autoZero"/>
        <c:auto val="1"/>
        <c:lblAlgn val="ctr"/>
        <c:lblOffset val="100"/>
        <c:noMultiLvlLbl val="0"/>
      </c:catAx>
      <c:valAx>
        <c:axId val="33060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38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FE9-756C-4473-BC0A-753E9E45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B17-3673-4EDA-B9CE-7EB7FBA3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60D-5AED-4875-AF10-A45B6C34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2F0-1185-4AB7-9120-1A32304C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FAB-BBB5-4404-B94B-E9E1FFC0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5D0-1C02-4FFC-B027-61B73ACE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1F5-3B4D-4951-96E1-55E1102F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8AC-2AE8-44C5-BF1D-FE0EE33F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2F7-F12F-4070-A669-54315C77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12E-8A51-4024-8558-24CCC83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DF6-7A8A-48CB-B120-9CCD662E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D75-F554-4C73-85D4-9EEFF81F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74661-15D3-4F03-9DDC-478475943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