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17870"/>
        <c:axId val="96518974"/>
      </c:barChart>
      <c:catAx>
        <c:axId val="551178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18974"/>
        <c:crosses val="autoZero"/>
        <c:auto val="1"/>
        <c:lblAlgn val="ctr"/>
        <c:lblOffset val="100"/>
        <c:noMultiLvlLbl val="0"/>
      </c:catAx>
      <c:valAx>
        <c:axId val="965189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178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434B-8117-4992-A8F6-DD655B58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3BAC-9A3E-451F-9ED0-9F8FE53E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E222-FB3A-4EB6-8AC6-F8A4F8BF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CA98-BAAA-4672-B7A5-B029972C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636A-9898-42AE-9E5D-B6EE6D83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617A-EE0B-44E9-98B1-6383CAD5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125-110A-4E73-989C-8D4B936B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0828-D746-43EF-AD28-32123384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2700-9F00-49FD-856D-EEE5E5B5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74A1-24BD-4C3C-A46E-9DDEEE46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5C65-D894-4976-888E-6B7AE339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0F36-9DD9-4A3D-9C94-824D4392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C5E1D-BB76-44B8-BAB5-73CBE4D49B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