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_rels/slide12.xml.rels" ContentType="application/vnd.openxmlformats-package.relationships+xml"/>
  <Override PartName="/ppt/slides/_rels/slide13.xml.rels" ContentType="application/vnd.openxmlformats-package.relationships+xml"/>
  <Override PartName="/ppt/slides/_rels/slide14.xml.rels" ContentType="application/vnd.openxmlformats-package.relationships+xml"/>
  <Override PartName="/ppt/slides/_rels/slide11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7.xml.rels" ContentType="application/vnd.openxmlformats-package.relationships+xml"/>
  <Override PartName="/ppt/slides/_rels/slide10.xml.rels" ContentType="application/vnd.openxmlformats-package.relationships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slide13.xml" ContentType="application/vnd.openxmlformats-officedocument.presentationml.slide+xml"/>
  <Override PartName="/ppt/slides/slide14.xml" ContentType="application/vnd.openxmlformats-officedocument.presentationml.slide+xml"/>
  <Override PartName="/ppt/slides/slide1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D35FDE-6367-4C88-A1F1-ABD7BA901D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03F5AC-52F7-4C32-AEB2-E7C54DC0F1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8E0F28-AF73-4229-9128-10E40D56F66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2F3355-3FC2-44E8-BDBB-BB5411A7F2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F7443-F325-44C9-9A50-F9953E37DC5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79190B-FAFD-4782-AE40-5D1C9153A53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7455B6-F161-4A69-86D4-78941C31C22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636137-DED7-4C9A-86AA-CB7853817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0FA1C0-3070-44B7-821D-11BDEA72DC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A4ACF0-C052-4819-95AE-7BDBFAD0B5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249C1-A596-4B85-87EF-903ACC22D1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572C9-6316-4738-A214-966FD93A551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920563-1D05-46C1-9EDE-A1457720429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png"/><Relationship Id="rId3" Type="http://schemas.openxmlformats.org/officeDocument/2006/relationships/slideLayout" Target="../slideLayouts/slideLayout10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Cellular Automata &amp; Nyquist: So Happy Together</a:t>
            </a:r>
            <a:br>
              <a:rPr sz="4000"/>
            </a:b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nn Lewi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2/05/02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mplementa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 have implemented a cellular automata package in Nyquist that allows you to use any one-dimensional automaton on any array of sounds, using any combining function on the activated sound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age: (cell-aut &lt;num iterations&gt; &lt;combining function&gt; &lt;sound list&gt; &lt;update rule&gt;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automata are differentiated by their evolution, or row update rules, you can specify the automaton you want to use just by specifying the update rul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pdate rule is simply a function that takes in 3 (t/nil) values, and returns t or nil. The three input values will be the values of the cell’s dependencies, and the output is the current cell’s value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defun wolfram-rule-30 (arg1 arg2 arg3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t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t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t) (eq arg2 nil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t) (eq arg3 nil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t)) t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(if (and (eq arg1 nil) (eq arg2 nil) (eq arg3 nil)) nil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Update Rule, con’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previous slide corresponds with this visual implementa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user can create their own update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88 of the possible 256 update rules are known to be fundamentally inequivalent  (Wolfram 2002, p. 57)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8" name="" descr=""/>
          <p:cNvPicPr/>
          <p:nvPr/>
        </p:nvPicPr>
        <p:blipFill>
          <a:blip r:embed="rId1"/>
          <a:stretch/>
        </p:blipFill>
        <p:spPr>
          <a:xfrm>
            <a:off x="457200" y="2352600"/>
            <a:ext cx="4038480" cy="301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Example Music Created Using Cellular Automata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8284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se examples are very simpl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ound arrays are just arrays of oscillator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e samples use Wolfram’s fractal rule (90) and Wolfram’s chaotic rule (30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ombine function is just SUM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Future Work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 plan to explore more complicated examples, including cellular automata of harmonics, and cellular automata of cellular automat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ow much musical structure can a cellular automaton describe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Music that is pleasant to the human ear is sparse over the set of all possible tone combinations over a given range of tones; cellular automata currently does not have this property. Can it be added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 </a:t>
            </a:r>
            <a:r>
              <a:rPr b="0" lang="en-US" sz="2400" spc="-1" strike="noStrike">
                <a:solidFill>
                  <a:srgbClr val="333399"/>
                </a:solidFill>
                <a:latin typeface="Arial"/>
              </a:rPr>
              <a:t>cellular automaton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s a collection of cells on a gri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ach cell evolves according to a set of rules based on the states of adjacent (or nearby) cell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One-dimensional, "elementary cellular automata," are represented by a single row of cells/states, each can have value 0 or 1. For a graphical automaton, 0/1 corresponds to black pixel/white pixe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wo-dimensional: cells depend on at least  four neighbors. These are capable of simulating a Turing machine for some configuration of about 200,000 cells (Gardner 1983, p. 227). Translation: cellular automata are very powerful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lementary Cellular Automat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simplest class of one-dimensional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Elementary cellular automata have two possible values for each cell (0 or 1), and rules that depend only on parent and parent neighbor valu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olution of an elementary cellular automaton can completely be described by a 2D table, where entry (i, j) corresponds to state j at generation i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ince there are 2*2*2 = 23 = 8 possible binary states for the three cells neighboring a given cell, there are a total of 28 = 256 elementary cellular automata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" descr=""/>
          <p:cNvPicPr/>
          <p:nvPr/>
        </p:nvPicPr>
        <p:blipFill>
          <a:blip r:embed="rId1"/>
          <a:stretch/>
        </p:blipFill>
        <p:spPr>
          <a:xfrm>
            <a:off x="1143000" y="1236600"/>
            <a:ext cx="6553080" cy="4899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: One-Dimensional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380880" y="1752480"/>
            <a:ext cx="4114800" cy="307656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64832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teven Wolfram enumerated all possible elementary cellular automata and he calls this particular rule set Rule 30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30 is of special interest because it is chaotic (Wolfram 2002, p. 871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s rule is used as the random number generator used for large integers in </a:t>
            </a:r>
            <a:r>
              <a:rPr b="0" i="1" lang="en-US" sz="2000" spc="-1" strike="noStrike">
                <a:solidFill>
                  <a:srgbClr val="000000"/>
                </a:solidFill>
                <a:latin typeface="Arial"/>
              </a:rPr>
              <a:t>Mathematica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(Wolfram 2002, p. 317)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Rule 90 (next slide) is also of interest because it generates fractal pattern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 #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3" name="" descr=""/>
          <p:cNvPicPr/>
          <p:nvPr/>
        </p:nvPicPr>
        <p:blipFill>
          <a:blip r:embed="rId1"/>
          <a:stretch/>
        </p:blipFill>
        <p:spPr>
          <a:xfrm>
            <a:off x="1905120" y="1447920"/>
            <a:ext cx="5405400" cy="4039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does this have to do with Nyquist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Ever wonder what fractal patterns would sound like in music?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Using cellular automata is a very efficient way of generating interesting musical patterns, because you only need to keep track of two generations at any given tim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o I decided to implement a cellular automata feature in Nyqui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Cellular Automata within Nyquis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Recall the one-dimensional array of states, each of which can be either 0 or 1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musical analogy for this idea is: instead of a row of states, you have an array of sounds. If a state has a value of 1, this sound is “turned on”, if 0 its “turned off.”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Also, assume you have chosen some method by which you can combine turned-on soun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xamp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7200" y="2209320"/>
            <a:ext cx="8229600" cy="3916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Here is a very simple array of sound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n this musical cellular automata structure, we choose the combining function to be SUM, for the sake of simplic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Now if states 2,3, and 6 are turned on, we would get the Nyquist sound (sum (osc 65) (osc 67) (osc 76)), which is just a simple chord.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The evolution of this automaton would be a sequential progression of chor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457200" y="1447920"/>
          <a:ext cx="8229600" cy="3729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1447920"/>
                    <a:ext cx="8229600" cy="3729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2-05T09:38:48Z</dcterms:created>
  <dc:creator>allewis</dc:creator>
  <dc:description/>
  <dc:language>en-US</dc:language>
  <cp:lastModifiedBy>allewis</cp:lastModifiedBy>
  <dcterms:modified xsi:type="dcterms:W3CDTF">2002-12-05T11:43:04Z</dcterms:modified>
  <cp:revision>67</cp:revision>
  <dc:subject/>
  <dc:title>Cellular Automata &amp; Nyquist: perfect together </dc:title>
</cp:coreProperties>
</file>